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2.pct" ContentType="image/x-pict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9737A-BA64-4E53-980E-35C5F10A91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tor/Nurse: http://www.doctortoto.com/images/doctortoto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V: http://www.languageinindia.com/april2003/television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ion: http://www.nextnature.net/?p=22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s the patient back some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s them to inside the hospital and outside the hos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weeds pic: http://www.nextnature.net/?p=22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es by linking them to staff or outdo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l or ceiling or curtain or built into the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si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i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it to be more engaging, have more services, more potential is t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ddie (colorfu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eak, flat panel, light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several sket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working on best proto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ing: On/Off; Di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V/Radio Controls: Volume, Channel, Station, Closed Captioning, On/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othing Sounds: On/Off, Volume, Sound Selection (Rain, Waterfall, River, Ocean, Cricke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active Proje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need to decide how much information/how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in doctor’s view [link!!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FDAA-C05D-4E0C-AFC1-2F0C04305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0546-4949-403D-BE86-8BC7FCAEE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5A2F-0309-49B9-AED1-44B203D81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0508-4E68-4262-BDCB-1B08852A7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D6996-9BB7-45FE-8253-A257C48A9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CA37C-EE34-45C2-9E9F-A79649904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CBC7A-21D3-4392-9627-A0D3E5498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63002-55F2-4212-949D-85527810C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45FFC-E14B-4533-B980-2EA4C9050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50301-5456-4810-977E-F711F63A7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9E9C6-38D1-4A9B-A1CB-DD4ED127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FF4D-E8E6-46D1-996C-0666D7A06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5DA91-5F01-4B56-83E3-49EEC55C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4BB8C-DE36-4591-B4CE-16CE2CD5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7A2B2-3B62-44C3-A795-EE11EF0EA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A3858-02F1-48E3-AA50-516A27FC6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F8D92-5E9E-4A4D-8A72-1EBCD7E4F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CFD4-00EE-4889-997C-7364DC0C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723A-EED2-44E5-9B1B-F25F13D9C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6603-2142-462B-9FF9-6E7C615AD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C7E2-3D4C-4DDB-9232-7DC10AF8A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487C-7E00-42F4-98B6-20F516CD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D922-1F07-4211-9C92-B1CEC9A1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A934-7F09-4261-BA9E-5420B3BD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BCDE6-0D14-424E-AF21-99353FD2F1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20C30-8FE2-41B1-B692-FCF93257EF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mproving Patient Experience in 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D Treatment Room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33720" y="2509920"/>
            <a:ext cx="464796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Garamond"/>
                <a:ea typeface="Osaka"/>
              </a:rPr>
              <a:t>Team M</a:t>
            </a:r>
            <a:r>
              <a:rPr b="0" i="1" lang="en-US" sz="3200" spc="-1" strike="noStrike">
                <a:solidFill>
                  <a:srgbClr val="00cc00"/>
                </a:solidFill>
                <a:latin typeface="Garamond"/>
                <a:ea typeface="Osaka"/>
              </a:rPr>
              <a:t>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Osaka"/>
              </a:rPr>
              <a:t>Sushama B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Osaka"/>
              </a:rPr>
              <a:t>Caroline Castell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Osaka"/>
              </a:rPr>
              <a:t>Allyn Ripp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Osaka"/>
              </a:rPr>
              <a:t>October 28,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990720" y="1219320"/>
            <a:ext cx="6933960" cy="47242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ve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765440" y="1752480"/>
            <a:ext cx="5386320" cy="36198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light weeds"/>
          <p:cNvPicPr/>
          <p:nvPr/>
        </p:nvPicPr>
        <p:blipFill>
          <a:blip r:embed="rId2"/>
          <a:srcRect l="0" t="0" r="0" b="23477"/>
          <a:stretch/>
        </p:blipFill>
        <p:spPr>
          <a:xfrm>
            <a:off x="5651640" y="4265640"/>
            <a:ext cx="1449360" cy="1204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1909800" y="2119320"/>
            <a:ext cx="1095480" cy="8161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093640" y="1855800"/>
            <a:ext cx="9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9200" y="2146320"/>
            <a:ext cx="48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T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76040" y="3809880"/>
            <a:ext cx="16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PROJ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1981080" y="3505320"/>
            <a:ext cx="1508400" cy="15224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682640" y="32004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N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51480" y="5043600"/>
            <a:ext cx="117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DO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5"/>
          <a:srcRect l="0" t="13895" r="39859" b="19988"/>
          <a:stretch/>
        </p:blipFill>
        <p:spPr>
          <a:xfrm rot="19376400">
            <a:off x="4932360" y="4749480"/>
            <a:ext cx="897120" cy="71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hat, Castellino, Ripp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E45A-B522-4F1D-94DD-512C8D607EB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8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Arial"/>
              </a:rPr>
              <a:t>Interactive Proj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4038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Dynamic and experienti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Responds to external stimuli, movement or patient inp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Incorporates sounds, col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Brings nature indo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Lowers patient anxie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Positive engagem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light weeds"/>
          <p:cNvPicPr/>
          <p:nvPr/>
        </p:nvPicPr>
        <p:blipFill>
          <a:blip r:embed="rId1"/>
          <a:srcRect l="0" t="0" r="0" b="23205"/>
          <a:stretch/>
        </p:blipFill>
        <p:spPr>
          <a:xfrm>
            <a:off x="5105520" y="1239840"/>
            <a:ext cx="2533680" cy="21891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075280" y="3713040"/>
            <a:ext cx="2736720" cy="22813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1400040" y="3570120"/>
            <a:ext cx="2867040" cy="2471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hat, Castellino, Ripp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69E4-68A0-4552-A4FD-CACFCDBE5C6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8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on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n the next several week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Research materials for de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Look at designs used by previous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Design device, software, and pro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mplement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hat, Castellino, Ripp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20CD-CFF6-4443-B1C7-D199020479A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8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Questions or com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hat, Castellino, Ripp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80B4-EB3E-451A-BBEE-68358389752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8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80880" y="3276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86200" y="57150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m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0120" y="3200400"/>
            <a:ext cx="121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ng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676520" y="152280"/>
            <a:ext cx="5943240" cy="5638680"/>
            <a:chOff x="1676520" y="152280"/>
            <a:chExt cx="5943240" cy="5638680"/>
          </a:xfrm>
        </p:grpSpPr>
        <p:sp>
          <p:nvSpPr>
            <p:cNvPr id="95" name=""/>
            <p:cNvSpPr/>
            <p:nvPr/>
          </p:nvSpPr>
          <p:spPr>
            <a:xfrm>
              <a:off x="1676520" y="152280"/>
              <a:ext cx="5943240" cy="56386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746080" y="1326960"/>
              <a:ext cx="3922560" cy="3289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" descr=""/>
          <p:cNvPicPr/>
          <p:nvPr/>
        </p:nvPicPr>
        <p:blipFill>
          <a:blip r:embed="rId1"/>
          <a:srcRect l="15396" t="0" r="6411" b="0"/>
          <a:stretch/>
        </p:blipFill>
        <p:spPr>
          <a:xfrm>
            <a:off x="3200400" y="1828800"/>
            <a:ext cx="2971800" cy="21826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hat, Castellino, Ripp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4162-DC0F-4AC4-A748-F747F3BC112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8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urrent Patient “Lifelin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3086280" cy="41148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43280" y="1981080"/>
            <a:ext cx="4043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Basic Remot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306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Nurse c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306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T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306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Rad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306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Light on/o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306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imited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306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mproper func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306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Uninspir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hat, Castellino, Ripp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3564-A2DB-4C41-89BA-C5307A711EB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8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nspirations for our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887480" y="1371600"/>
            <a:ext cx="2227320" cy="2460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724280" y="1523880"/>
            <a:ext cx="2586240" cy="1908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905120" y="3930480"/>
            <a:ext cx="2536560" cy="1708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952880" y="3943440"/>
            <a:ext cx="3124440" cy="21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w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-friend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al rem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uchscreen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ible at bed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hat, Castellino, Ripp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AB37-F243-4A0A-8395-3B8B99FB2DD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8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solution: </a:t>
            </a:r>
            <a:r>
              <a:rPr b="1" lang="en-US" sz="4400" spc="-1" strike="noStrike">
                <a:solidFill>
                  <a:srgbClr val="00cc00"/>
                </a:solidFill>
                <a:latin typeface="Arial"/>
              </a:rPr>
              <a:t>M</a:t>
            </a:r>
            <a:r>
              <a:rPr b="0" i="1" lang="en-US" sz="4400" spc="-1" strike="noStrike">
                <a:solidFill>
                  <a:srgbClr val="00cc00"/>
                </a:solidFill>
                <a:latin typeface="Arial"/>
              </a:rPr>
              <a:t>p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724280" y="1371600"/>
            <a:ext cx="3171960" cy="45306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727360" y="2398680"/>
            <a:ext cx="2759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1676520"/>
            <a:ext cx="388620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held bedside remo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-friendly buttons/touchsc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s to wall by retractable cord or ar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ful, lightwe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multiple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pow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patient through information and positive eng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ts to screensaver when not in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hat, Castellino, Ripp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3867-7F44-46FE-9307-F80E61F2EA2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8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962520" y="1066680"/>
            <a:ext cx="4647960" cy="4267440"/>
          </a:xfrm>
          <a:prstGeom prst="roundRect">
            <a:avLst>
              <a:gd name="adj" fmla="val 16667"/>
            </a:avLst>
          </a:prstGeom>
          <a:solidFill>
            <a:srgbClr val="a6dd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Main fun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y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y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y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Nurse Call 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419720" y="1523880"/>
            <a:ext cx="3809880" cy="3337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hat, Castellino, Ripp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8E7A-9989-4227-A067-100966EB88B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8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428640" y="15192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MYro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33520" y="1268280"/>
            <a:ext cx="5257800" cy="4599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867280" y="2397240"/>
            <a:ext cx="342900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ive patients control over his/her immediate environm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ovide better lighting op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omote relaxation with “soothing sounds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reate engaging experience with interactive projec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hat, Castellino, Ripp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E801-656B-4593-A1D5-B2DDE36824F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8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Yc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5502240" cy="4813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019920" y="1143000"/>
            <a:ext cx="2743200" cy="24289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019920" y="3962520"/>
            <a:ext cx="2895480" cy="330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Uses RFID technology to identify doctors and nurses as soon as they enter 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Establishes connection and builds relationship with 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mproves patient satisf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hat, Castellino, Ripp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910C-6A07-4FD1-8FF9-DA0CB10A939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8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MYprog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17680" y="1143000"/>
            <a:ext cx="5121000" cy="44798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943600" y="3048120"/>
            <a:ext cx="27432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power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 with existing system to relay status of orders and approximate wai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ps patients understand “What am I waiting for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019920" y="1143000"/>
            <a:ext cx="2666880" cy="1736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 flipH="1">
            <a:off x="4190760" y="1752480"/>
            <a:ext cx="190476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hat, Castellino, Ripp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7970-B343-42AF-8691-016E41BDCA2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8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4T18:45:42Z</dcterms:created>
  <dc:creator>Caroline Castellino</dc:creator>
  <dc:description/>
  <dc:language>en-US</dc:language>
  <cp:lastModifiedBy>Office 2004 Test Drive User</cp:lastModifiedBy>
  <dcterms:modified xsi:type="dcterms:W3CDTF">2008-10-28T19:34:43Z</dcterms:modified>
  <cp:revision>30</cp:revision>
  <dc:subject/>
  <dc:title>Slide 1</dc:title>
</cp:coreProperties>
</file>